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93F-8AF5-436E-9675-A9CDF13A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431-600A-4CEF-AFB4-83AFC938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999-90FF-43B8-A34D-0FA56269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D86-37EA-4724-8E70-5CCC740C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5BA-6909-4361-86FD-E45D8338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312-E8B9-4B72-9B8E-DA86591A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961-15AC-47F0-9054-DA9695FC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1EAE-96A0-4A02-9C08-F6BBB0F4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A75-75F6-4270-BD20-2F32AFE9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41D-BE97-4C38-8935-F0FCE29C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7CF-C55B-45DE-B9D4-0CA305E6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B91-7A52-4B34-A7AA-A5BB5ED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D2A6-4665-4CE3-A962-94BB3050D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gnitive Development in Infancy and Childhood: Piaget’s Cognitive Stag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14: Prenatal and Childhoo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get’s first stage of cogni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birth to about age 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 gathers information about the world through sensory impressions and motor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 learns object perma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Perman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wareness that things continue to exist even when you cannot see or hear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 of sight, out of min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get’s second stage of cogni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about age 2 to age 6 or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learns to use language but cannot yet think log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ocent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Piaget’s theory, the inability of the preoperational child to take another person’s point of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s a child’s inability to understand that symbols can represent other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get’s third stage of cogni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about age 6 to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 gain the mental skills that let them think logically about concret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 con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understanding that certain properties remain constant despite changes in their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perties can include mass, volume, and numb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29" descr="Picture30b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icture30c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Picture30d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aget Development.mov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an Piaget (pee-ah-ZHA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oneer in the study of developmental psychology who introduced a stage theory of cognitive development that lead to a better understanding of children’s thought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a theory consisting of four stages of cogni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Blair-Broeker_14UN05"/>
          <p:cNvPicPr/>
          <p:nvPr/>
        </p:nvPicPr>
        <p:blipFill>
          <a:blip r:embed="rId1"/>
          <a:stretch/>
        </p:blipFill>
        <p:spPr>
          <a:xfrm>
            <a:off x="4800600" y="3965400"/>
            <a:ext cx="380988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Conservatio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9999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get’s fourth and last stage of cogni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out age 12 on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begin to think logically about abstract concepts and form strategies about things they may not have experien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solve hypothetical problems (What if…. proble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gnitive Development in Infancy and Childhood: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ssessing Piag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14: Prenatal and Childhoo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Piaget’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Blair-Broeker_table"/>
          <p:cNvPicPr/>
          <p:nvPr/>
        </p:nvPicPr>
        <p:blipFill>
          <a:blip r:embed="rId1"/>
          <a:stretch/>
        </p:blipFill>
        <p:spPr>
          <a:xfrm>
            <a:off x="1219320" y="990720"/>
            <a:ext cx="647676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Piaget’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get underestimated the child’s ability at various 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get’s theory doesn’t take into account culture and social differ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gnitive Development in Adolescence: Morali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15: Adol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rence Kohlb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or of a three-stage theory of mora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nz Dilem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oman was near death from a unique kind of cancer. There is a drug that might save her. The drug costs $4,000 per dosage. The sick woman's husband, Heinz, went to everyone he knew to borrow the money and tried every legal means, but he could only get together about $2,000. He asked the doctor scientist who discovered the drug for a discount or let him pay later. But the doctor scientist ref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Heinz break into the laboratory to steal the drug for his wife? Why or why not?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nz Dilem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nz broke into the laboratory and stole the drug. The next day, the newspapers reported the break-in and theft. Brown, a police officer and a friend of Heinz remembered seeing Heinz last evening, behaving suspiciously near the laboratory. Later that night, he saw Heinz running away from the laboratory.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Brown report what he saw? Why or why no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nz Dilem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r Brown reported what he saw. Heinz was arrested and brought to court. If convicted, he faces up to two years' jail. Heinz was found guilty.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the judge sentence Heinz to prison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the mental activities associated with thinking, knowing, and rememb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think differently than adults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Preconventional Moral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zed by the desire to avoid punishment or gain re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ly children under the age of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Conventional Moral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mary concern is to fit in and play the role of a good cit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ople have a strong desire to follow the rules and la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of most ad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Postconventional Moral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zed by references to universal ethical principles that represent the rights or obligations of all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adults do not reach this le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rence Kohlberg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Kohlberg 03"/>
          <p:cNvPicPr/>
          <p:nvPr/>
        </p:nvPicPr>
        <p:blipFill>
          <a:blip r:embed="rId1"/>
          <a:stretch/>
        </p:blipFill>
        <p:spPr>
          <a:xfrm>
            <a:off x="3838680" y="0"/>
            <a:ext cx="503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rence Kohlberg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Kohlberg 02"/>
          <p:cNvPicPr/>
          <p:nvPr/>
        </p:nvPicPr>
        <p:blipFill>
          <a:blip r:embed="rId1"/>
          <a:stretch/>
        </p:blipFill>
        <p:spPr>
          <a:xfrm>
            <a:off x="3838680" y="0"/>
            <a:ext cx="5037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rence Kohlberg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Kohlberg 01"/>
          <p:cNvPicPr/>
          <p:nvPr/>
        </p:nvPicPr>
        <p:blipFill>
          <a:blip r:embed="rId1"/>
          <a:stretch/>
        </p:blipFill>
        <p:spPr>
          <a:xfrm>
            <a:off x="3838680" y="0"/>
            <a:ext cx="5037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ocial Development in Adolesc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15: Adol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ik Eri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d an 8-stage theory of socia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ch stage has its own psychosocial, developmental tas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rikson 02"/>
          <p:cNvPicPr/>
          <p:nvPr/>
        </p:nvPicPr>
        <p:blipFill>
          <a:blip r:embed="rId1"/>
          <a:stretch/>
        </p:blipFill>
        <p:spPr>
          <a:xfrm>
            <a:off x="533520" y="866880"/>
            <a:ext cx="815328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Erikson 03"/>
          <p:cNvPicPr/>
          <p:nvPr/>
        </p:nvPicPr>
        <p:blipFill>
          <a:blip r:embed="rId1"/>
          <a:stretch/>
        </p:blipFill>
        <p:spPr>
          <a:xfrm>
            <a:off x="762120" y="417600"/>
            <a:ext cx="769608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epts or mental frameworks that people use to organize and interpre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times called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erson’s “picture of the worl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Erikson 01"/>
          <p:cNvPicPr/>
          <p:nvPr/>
        </p:nvPicPr>
        <p:blipFill>
          <a:blip r:embed="rId1"/>
          <a:stretch/>
        </p:blipFill>
        <p:spPr>
          <a:xfrm>
            <a:off x="1676520" y="9360"/>
            <a:ext cx="56242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preting a new experience within the context of existing sch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w experience is similar to other previous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mmo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apting current schemas to incorporate new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w experience is so novel the person’s schemata must be changed to accommodat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milation/Accommo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30" descr="Assim Accomm 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milation/Accommo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33" descr="Assim Accomm 02"/>
          <p:cNvPicPr/>
          <p:nvPr/>
        </p:nvPicPr>
        <p:blipFill>
          <a:blip r:embed="rId1"/>
          <a:stretch/>
        </p:blipFill>
        <p:spPr>
          <a:xfrm>
            <a:off x="0" y="1598760"/>
            <a:ext cx="91440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milation/Accommo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31" descr="Assim Accomm 01"/>
          <p:cNvPicPr/>
          <p:nvPr/>
        </p:nvPicPr>
        <p:blipFill>
          <a:blip r:embed="rId1"/>
          <a:stretch/>
        </p:blipFill>
        <p:spPr>
          <a:xfrm>
            <a:off x="0" y="1598760"/>
            <a:ext cx="9144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7:26Z</dcterms:created>
  <dc:creator>Home</dc:creator>
  <dc:description/>
  <dc:language>en-US</dc:language>
  <cp:lastModifiedBy>Meghan Reilly</cp:lastModifiedBy>
  <dcterms:modified xsi:type="dcterms:W3CDTF">2011-11-08T16:57:23Z</dcterms:modified>
  <cp:revision>98</cp:revision>
  <dc:subject/>
  <dc:title>Psychology</dc:title>
</cp:coreProperties>
</file>